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7A32-3A07-41D4-A799-2A5CB764DB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0560" y="382680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A60FF-04C3-402D-906C-528FDFA5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600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826F-CE70-425B-87E6-7A55928C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680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268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056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680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268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1000-CE96-4A14-8B53-9B1D9E855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F2D6B-F385-490D-95B0-E0B054C1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C523D-4DB1-4C1F-B240-48374917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05E58-8BF8-4574-98EC-02F98427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71DA4-F0EC-40DC-96E2-919093EE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AE72F-84ED-4B03-8153-2CB18AEA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259920"/>
            <a:ext cx="80010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BF172-110E-4AFA-9913-E83EC1A7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8E122-8E6C-49FB-A6A6-15DCC2A6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6F39-3096-489F-B7DB-B0EDCB5A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600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D1695-7DBF-4D8D-8A35-CE2D6D57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C39CE-BA45-4DE6-8512-0DDA25BB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560" y="382680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DB3C3-5C20-4599-880E-22B1890B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600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6CFD0-AF14-48A0-8D01-51E58007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680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268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56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680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268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29E2D-8696-4BFB-A157-D59106E7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0622-7589-45DB-89B4-C6A9AA14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79FA-95A5-436E-A095-5ACE880F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74FA6-2798-4854-ADE4-1146B517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259920"/>
            <a:ext cx="80010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9A8D0-E1C1-415F-8BD8-5E50D524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AB74-CDCC-447B-8D31-723B797B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1D93-5876-478F-A812-F6966269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C539-8F47-4332-B5DA-51A455CF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526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086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704F-EC72-480C-9A34-B5EB14432D5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02560" y="6594480"/>
            <a:ext cx="619200" cy="17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86920" y="6594480"/>
            <a:ext cx="618840" cy="1713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018200" y="6594480"/>
            <a:ext cx="619200" cy="1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88C0-06AC-4D16-AB13-68A8684717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79280" y="3130560"/>
            <a:ext cx="8785440" cy="15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安徽省省直机关</a:t>
            </a:r>
            <a:r>
              <a:rPr b="0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2012</a:t>
            </a:r>
            <a:r>
              <a:rPr b="0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年公开遴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公务员（工作人员）考试笔试监考培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1"/>
          <p:cNvSpPr/>
          <p:nvPr/>
        </p:nvSpPr>
        <p:spPr>
          <a:xfrm>
            <a:off x="2500200" y="478620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2012</a:t>
            </a: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年</a:t>
            </a: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9</a:t>
            </a: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月</a:t>
            </a: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20</a:t>
            </a: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9:00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（响铃）迟到考生禁止入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3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回收缺考人员的试题、答题纸，在</a:t>
            </a:r>
            <a:r>
              <a:rPr b="1" lang="zh-CN" sz="3000" spc="-1" strike="noStrike" u="sng">
                <a:solidFill>
                  <a:srgbClr val="336699"/>
                </a:solidFill>
                <a:uFillTx/>
                <a:latin typeface="Arial Narrow"/>
                <a:hlinkClick r:id="rId2" action="ppaction://hlinksldjump"/>
              </a:rPr>
              <a:t>答题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纸、试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题上“姓名栏”填写“缺考”、填涂准考证号并将有关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情况记录在 “</a:t>
            </a:r>
            <a:r>
              <a:rPr b="1" lang="zh-CN" sz="3000" spc="-1" strike="noStrike" u="sng">
                <a:solidFill>
                  <a:srgbClr val="336699"/>
                </a:solidFill>
                <a:uFillTx/>
                <a:latin typeface="Arial Narrow"/>
                <a:hlinkClick r:id="rId3" action="ppaction://hlinksldjump"/>
              </a:rPr>
              <a:t>考场情况记录单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”上。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:00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（响铃） 考生可交卷离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试进行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:10(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响铃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提醒考生离考试结束还有二十分钟。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:30(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响铃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宣布考试结束，并立即令考生停止答题。要求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生立即将试卷反面向上放在桌面上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6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甲监考维持考场秩序，乙监考验收各考生试题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本、答题纸、草稿纸，清点无误后，组织考生退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（严禁考生带走试题本、答题纸、草稿纸）。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7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将身份证返还考生。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试结束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收 卷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18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监考员按准考证号的顺序整理试卷、答题纸（包括缺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考考生的试卷、答题纸）填写，装订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19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考试结束后，试卷与答题纸一定要分开装订，避免答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题纸漏装与误装，统一装至试卷袋中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楼层在试卷袋上“验收人员”栏目签字，要求监考人员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将草稿纸装入准备袋中，装订好的答题卷经楼层考务验收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后进行密封，监考教师并在试卷密封条上签字，考生座次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表单独交至考务办公室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21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考试准备材料（包括监考证、草稿纸）放入考试准备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袋送回考试办公室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试收尾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、监考人员应认真履行工作职责，考生若有违纪违规行为发生，必须按照规定处理，保存有关证据并填写考场记录单。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、监考人员应在规定的时间内认真核对考生本人与准考证、身份证、考场座次表的信息是否一致，并要求考生在考场座次表上签字留验。验证结束后，监考人员将考生身份证集中保管。考生一律凭准考证、本人有效身份证件（身份证、临时身份证）进入考点，缺一不可。因办理“二代证”延误领取身份证的考生，须出具本人户口所在地派出所出具的标准格式的户籍证明（须贴本人照片、盖户籍章）方可入场。</a:t>
            </a:r>
            <a:r>
              <a:rPr b="1" lang="zh-CN" sz="2100" spc="-1" strike="noStrike">
                <a:solidFill>
                  <a:srgbClr val="cc0000"/>
                </a:solidFill>
                <a:latin typeface="Arial Narrow"/>
              </a:rPr>
              <a:t>其他任何证明、说明、过期身份证一律无效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、监考人员应在规定时间准确填写（涂）缺考考生准考证号及缺考标识，并在姓名栏填写“缺考”字样，并在《考场情况记录单》上填涂缺考准考证号码、登记缺考考生准考证号；若发生违纪违规现象，在试卷封面做好记录，并在《考场情况记录单》填涂违纪座次号，登记违纪考生姓名、准考证号、违纪情况描述等。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、监考人员必须按要求逐项据实详尽填写考场记录、试卷封面和卡袋封面，不得漏填、误填，</a:t>
            </a:r>
            <a:r>
              <a:rPr b="1" lang="zh-CN" sz="2100" spc="-1" strike="noStrike">
                <a:solidFill>
                  <a:srgbClr val="cc0000"/>
                </a:solidFill>
                <a:latin typeface="Arial Narrow"/>
              </a:rPr>
              <a:t>若有违纪违规现象记录必须交主考确认。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404640"/>
            <a:ext cx="2232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监考人员应自始至终在考场内巡查，不要长时间固定在某一位置或注视考生答题。发现考生有违纪行为时，应立即制止，并将考生准考证号码及其违纪情况如实、详细记入考场记录单。对情节严重的应立即报告主考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监考人员不念题，不对试题内容作任何解释。如考生对试题印刷不清之处提出疑问时，应当众解答，但不得解释题意或暗示答案；不得在考场内吸烟、阅读书报、谈笑或从事其他与监考工作无关的事情；不得抄题、做题，或将试卷和草稿纸传出考场；不得擅自离岗或进入其他考场；必须制止无关人员进入考场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所有考试科目考生均不得携带计算器和参考资料入场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404640"/>
            <a:ext cx="2232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考场准备袋内装材料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黑色水笔、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2B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铅笔、小刀，液体胶、锥子、棉线；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监考证、座贴、手机袋；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《监考工作流程 》、《考场规则》、警示语和温馨提示、《监考指导语 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4360" y="1268280"/>
            <a:ext cx="5111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注意事项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拆封试卷，注意舌头位置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避免从下方拆封试卷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考场必须要写数字序号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验收人员由楼层考务验收后填写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5666" t="7533" r="3584" b="10828"/>
          <a:stretch/>
        </p:blipFill>
        <p:spPr>
          <a:xfrm>
            <a:off x="611280" y="1413000"/>
            <a:ext cx="345600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16000" y="1268280"/>
            <a:ext cx="424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注意事项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缺考考生务必注明“缺考”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7301" r="0" b="0"/>
          <a:stretch/>
        </p:blipFill>
        <p:spPr>
          <a:xfrm>
            <a:off x="539640" y="1052640"/>
            <a:ext cx="3929040" cy="548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6985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9263" t="9739" r="6510" b="3872"/>
          <a:stretch/>
        </p:blipFill>
        <p:spPr>
          <a:xfrm>
            <a:off x="395280" y="1484280"/>
            <a:ext cx="6553080" cy="44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1628640"/>
            <a:ext cx="8748720" cy="3240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11280" y="2044800"/>
            <a:ext cx="4167360" cy="181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 Narrow"/>
              </a:rPr>
              <a:t>考   试   时   间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2012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日，考试科目及时间安排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：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上午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08:30—11:30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《公共科目》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试领导组成员：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主  考：彭代银       副主考：储全根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成  员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胡运怀   沈少蕾   付文如  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李瑞洲   尚莉丽   许    钒   阚峻岭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东区考务人员：李国强、黄   炜、阮方宜、尹   刚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西区考务人员：沈    明、刘   睿、张    翔 、彭   程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考务安排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我校东区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44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个考场，西区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4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个考场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东区    巡考：彭代银  储全根  沈少蕾  付文如   许    钒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、主考及巡考人员办公室设在仲景楼一楼教师休息室，考试办公室设在仲景楼二楼教师休息室，休息室设在仲景楼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10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西区    巡考：胡运怀  李瑞洲  尚莉丽  阚峻岭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、主考与巡考人员办公室、考试办公室设在杏林楼二楼教师休息室，休息室设在弘景楼一楼教师休息室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监考教师、楼层考务（上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点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分）在东区仲景楼一楼大厅、西区杏林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楼一楼大厅查看具体抽签安排，监考教师直接到考场，楼层考务到巡考办公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室领取材料。因出入考场需要，请教师带学校统一制作的监考证或工作证、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研究生佩戴研究生证。进入考场后，统一佩戴准备袋内的安徽省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人事考试监考证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响铃时间安排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12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8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5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生入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8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25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拆封试卷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8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30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试开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9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0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迟到考生禁止入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0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生可交卷离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0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离考试结束还有二十分钟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30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试结束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场布置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50320"/>
            <a:ext cx="874872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07:30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布置考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从楼层考务人员处领取考场准备袋，检查准备袋材料是否齐备（监考证两个、考生座位号标识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份、铅笔一支、黑色水笔一支、胶水一瓶、小刀一把、锥子和棉线各一个、操作规程、考场规则、操作规程 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在课桌右上角贴好座位号。要求前后对齐，均匀分布。考场黑板书写警示语和温馨提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08:00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领取试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监考人员从楼层考务人员处领取试卷袋和考场座次表，检查封条是否完好；</a:t>
            </a:r>
            <a:r>
              <a:rPr b="1" lang="zh-CN" sz="2000" spc="-1" strike="noStrike">
                <a:solidFill>
                  <a:srgbClr val="cc0000"/>
                </a:solidFill>
                <a:latin typeface="Arial Narrow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08:15(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响铃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组织考生入场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、组织考生凭</a:t>
            </a:r>
            <a:r>
              <a:rPr b="1" lang="zh-CN" sz="1600" spc="-1" strike="noStrike" u="sng">
                <a:solidFill>
                  <a:srgbClr val="336699"/>
                </a:solidFill>
                <a:uFillTx/>
                <a:latin typeface="Arial Narrow"/>
                <a:hlinkClick r:id="rId2" action="ppaction://hlinksldjump"/>
              </a:rPr>
              <a:t>准考证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和本人有效身份证件（身份证或临时身份证或有效期内的须贴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本人照片、盖户籍章的户籍证明或军官证或护照）进入考场；发现考生证件不齐全，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不能让其考生进入考场。认真核对考场座次表上的考生照片与考生本人是否一致，认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真核对考生的准考证、身份证，要求考生对号入座。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、组织已入场的考生把包、书籍等存放在讲台区域，严禁放在窗台上；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、要求考生将准考证、有效身份证件放在桌面右上角。提醒考生手机等通讯工具应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关机断电后装入配发的手机袋内并放置桌面。若考试过程中，手机发出声音或震动即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按严重作弊处理；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、监考人员宣读《考场规则》和《公务员录用考试违纪违规行为处理办法》和身份证统一上交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的规定；另一监考人员组织学生填写考场座次表。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260280"/>
            <a:ext cx="8001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考前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2060640"/>
            <a:ext cx="7848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08:25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响铃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拆 封试 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请两名考生一同检查试卷袋密封情况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向全场考生公示后写“试卷完好无损”签字、开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核对试卷和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 Narrow"/>
                <a:ea typeface="楷体_GB2312"/>
                <a:hlinkClick r:id="rId2" action="ppaction://hlinksldjump"/>
              </a:rPr>
              <a:t>答题纸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科目、数量情况，确认无误后，分发考试材料，要求考生填写（或填涂）试题、答题纸上姓名、准考证号等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要求考生认真阅读有关注意事项，不得提前答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前准备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08:30(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响铃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考试开始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监考人员宣布考试开始，收取考生身份证，</a:t>
            </a:r>
            <a:r>
              <a:rPr b="1" lang="zh-CN" sz="2600" spc="-1" strike="noStrike">
                <a:solidFill>
                  <a:srgbClr val="cc0000"/>
                </a:solidFill>
                <a:latin typeface="Arial Narrow"/>
              </a:rPr>
              <a:t>注意考后返还学生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①再次核对考场座次表上的考生照片与考生本人是否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一致；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认真核对考场座次表上的有关信息与考生的准考证、身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份证是否一致；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③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认真核对考生在答题卡上填（涂）写的姓名、准考证号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等信息与考生的准考证、身份证是否一致；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核验完证件后，</a:t>
            </a:r>
            <a:r>
              <a:rPr b="1" lang="zh-CN" sz="2600" spc="-1" strike="noStrike">
                <a:solidFill>
                  <a:srgbClr val="cc0000"/>
                </a:solidFill>
                <a:latin typeface="Arial Narrow"/>
              </a:rPr>
              <a:t>监考员一前一后认真监考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试开始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1:58:36Z</dcterms:created>
  <dc:creator>微软用户</dc:creator>
  <dc:description/>
  <dc:language>en-US</dc:language>
  <cp:lastModifiedBy>安徽中医学院</cp:lastModifiedBy>
  <dcterms:modified xsi:type="dcterms:W3CDTF">2012-09-20T06:45:12Z</dcterms:modified>
  <cp:revision>52</cp:revision>
  <dc:subject/>
  <dc:title>幻灯片 1</dc:title>
</cp:coreProperties>
</file>